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38F25-51A1-429E-9481-B66EB80B9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F8E62-AC7D-48E7-982E-F22F992F4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57E04-7BEA-4FF8-B248-358B3DE8C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79ED3-58ED-4E17-A41C-273B817FD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B7F6E-3D27-44B8-8C81-F794D48FB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4D944-A35F-4C41-8DED-4AC0D36BA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55160-3611-422F-99BD-290881817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18DA5-E2C6-4E38-8385-9CDC59B16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6F41B-0E36-4146-8DCD-94F565DF3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1C57C-3AD6-4707-B7E0-449700F8F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C7F65-5DBC-4063-BB26-5711EEB0D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A82D7-C46A-4B9B-8205-460EFEA05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7A45E-0B45-49CC-BA37-4DB628C37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CB872-6D95-4ED6-BCB5-E53194F4D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66EEA-E14C-4546-960D-4F1A3DA65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3B9E3-CF84-4DED-98F5-4C1950548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30BA1-74D5-4F2F-A863-841BF155F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ED769-22CB-4971-8357-78B8616A6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A2AC2-218F-4529-B3B6-F26A9405B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972C8-2918-44D8-92F9-D1E20C27C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CDB12-7686-443A-8906-969470D5F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8BBD8-0609-448F-BA8F-35B60AB7A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9406F-F0CC-4590-A166-F1F2902BE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FF205-828A-460A-8EF3-F4CD46387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57FB6-FCDF-4591-ADB3-6B3ACA5D15D0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2B67F-0E7B-456A-BB09-E7ECECF95EDD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Launching the New Ship of State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hapter 1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789-180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Emergence of Political Parties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olitical parties had not existed in America when George Washington took office. 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at was once a personal feud between Thomas Jefferson and Alexander Hamilton had developed into a full-blown and bitter political rivalry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 the 1790s, Jefferson and Madison organized their opposition to the Hamiltonian program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 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wo-party syste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 emerge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Jeffersonian Democratic-Republicans vs. Hamiltonian Federalis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Impact of the French Revolution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 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French Revolution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 started in 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1789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egan peacefully, entered a violent phase when France declared war on Austria King Louis XVI was beheaded, church was attacked, and Reign of Terror began. 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ederalists supported revolution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 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ut that view changed when the attitude of the revolution change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5181480" y="5049720"/>
            <a:ext cx="2286000" cy="18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AP PART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uthor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 Who created the source? What is their point of view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Place and Time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 -Where and when was the source produced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Prior Knowledge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 - What do you already know that would further your understanding of this sourc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udience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 - For whom was the source created? Does this affect the reliability of the sourc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Reason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 - Why was this source produced at the time it was produced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The Main Idea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 - What is the source trying to convey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Significance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 - Why is this source important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nswer questions at the end of the document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Writing Promp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f people had YouTube during this time period, what do you think they would be posting videos of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Washington for President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nanimously elected as Presid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y the Electoral College in 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1789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stablished the cabinet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retary of State: Thomas Jefferson 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retary of the Treasury: Alexander Hamilt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retary of War: Henry Knox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7142040" y="1143000"/>
            <a:ext cx="200196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Bill of Right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James Madison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 wrote 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Bill of Righ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assed by Congress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1791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Judiciary Act of 1789-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 created the Supreme Cou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hief justice and five associat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ederal district and circuit cour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stablished the office of attorney genera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John Jay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 became the first Chief Justic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Public Credit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Alexander Hamilton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 created plan to shape policies of the administration to favor the wealthier groups. 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ealthier groups would then lend money &amp; political support to the government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ealth in the government would trickle down through society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410080" y="4659480"/>
            <a:ext cx="2438640" cy="21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Public Credit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overnment would pay off debt at face value plus interes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rengthen national credit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vinced Congress to take on states’ deb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ates w/ small debts disagre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mpromise: District of Colombia is placed on Potomac River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ustoms, Duties &amp; Excise Tax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amilton's objectives: to keep a 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national debt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more creditors to whom the government owed money, the more people there would be with a personal stake in the success of the government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419720" y="4105440"/>
            <a:ext cx="2857320" cy="27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ustoms, Duties &amp; Excise Tax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xpected 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ariff revenues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o pay interest on the huge debt and run the government. 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rst tariff law passed by Congress in 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1789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mposed a low tax of 8% on the value of impor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urpose to create revenue &amp; a small protective wall around small industri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assed additional internal revenue &amp; an 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excise tax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 on a few domestic items, notably whiskey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Hamilton Battles Jefferson for a Bank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lexander Hamilton proposed a 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Bank of the United Stat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 that could print paper money and thus provide a stable national currency. 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omas Jefferson strongly opposed the Bank stating it was unconstitutional. 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elt the states had the right to manage their own mone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pposition came from the south &amp; support came from the nort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st Bank of the United States was created in 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1791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  Its charter lasted for 20 years &amp; was located in Philadelphi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Mutiny in Pennsylvania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Whiskey Rebellion-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led by distillers who strongly opposed the 1791 excise tax on whiskey. 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nded when Washington sent in federal troops. 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rong message was sent by the government stating that it would enforce the law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3124080" y="5024520"/>
            <a:ext cx="2895840" cy="18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8T12:59:04Z</dcterms:created>
  <dc:creator>emily.johnson</dc:creator>
  <dc:description/>
  <dc:language>en-US</dc:language>
  <cp:lastModifiedBy>emily.johnson</cp:lastModifiedBy>
  <dcterms:modified xsi:type="dcterms:W3CDTF">2012-10-09T13:15:08Z</dcterms:modified>
  <cp:revision>5</cp:revision>
  <dc:subject/>
  <dc:title>Launching the New Ship of State</dc:title>
</cp:coreProperties>
</file>